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8EB51-D686-4BD7-91BF-1619BBE1A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0B0B1-E34C-4960-88C0-0ADCBC072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5EB8A-3463-4244-8B0C-CB9A851D8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98083-456B-4399-AD4B-E99499809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C352A-DBA8-4314-B0D7-D4D1173A2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6B123-7A3B-4096-8ED2-099630185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53F00-71BB-4E2C-947A-FA8BD25D3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6BA2F-9B26-44F6-BCD1-B48EACAFC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73492-B8BC-4DC3-8D56-E42A8D3EE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78AA2-7416-4832-92E4-9410BBE65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2949A-12BC-45A6-A8DB-5E58687A2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684C5-FF8A-43FC-A07E-45EACDC71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2682B-C495-4813-B865-81F84F91E5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Biographies</a:t>
            </a:r>
            <a:br>
              <a:rPr sz="4000"/>
            </a:b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Group 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85280" indent="-48528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born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485280" indent="-48528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core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485280" indent="-48528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short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485280" indent="-485280">
              <a:spcBef>
                <a:spcPts val="16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Arial"/>
              </a:rPr>
              <a:t>morning</a:t>
            </a:r>
            <a:endParaRPr b="0" lang="en-US" sz="6500" spc="-1" strike="noStrike">
              <a:solidFill>
                <a:srgbClr val="000000"/>
              </a:solidFill>
              <a:latin typeface="Arial"/>
            </a:endParaRPr>
          </a:p>
          <a:p>
            <a:pPr marL="485280"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485280"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4852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485280"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8. sport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9. torn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10. sort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11. snore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-360"/>
            <a:ext cx="403848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5. fork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6. four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7. horn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038480" y="-360"/>
            <a:ext cx="510552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12. fort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13. forty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14. forest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The Great Ball Game</a:t>
            </a:r>
            <a:br>
              <a:rPr sz="4000"/>
            </a:b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Group 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fork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born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horn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5. sort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6. fort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The Great Ball Game</a:t>
            </a:r>
            <a:br>
              <a:rPr sz="4000"/>
            </a:b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Group 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4495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fort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fores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aliforni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histor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343040" y="1599840"/>
            <a:ext cx="4800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10. motorcycle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11. comfortable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12. ornamen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13. flavo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0" y="0"/>
            <a:ext cx="449568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5. favorit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6. glor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7. scor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8. cornfiel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9. elevato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495680" y="0"/>
            <a:ext cx="464832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14. misfortun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15. </a:t>
            </a:r>
            <a:r>
              <a:rPr b="0" lang="en-US" sz="5500" spc="-1" strike="noStrike">
                <a:solidFill>
                  <a:srgbClr val="000000"/>
                </a:solidFill>
                <a:latin typeface="Arial"/>
              </a:rPr>
              <a:t>unforgettable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8T10:54:43Z</dcterms:created>
  <dc:creator>Kathryn.Cobb</dc:creator>
  <dc:description/>
  <dc:language>en-US</dc:language>
  <cp:lastModifiedBy>Kathryn.Cobb</cp:lastModifiedBy>
  <dcterms:modified xsi:type="dcterms:W3CDTF">2008-02-14T19:27:30Z</dcterms:modified>
  <cp:revision>9</cp:revision>
  <dc:subject/>
  <dc:title>The Art Lesson Group A</dc:title>
</cp:coreProperties>
</file>